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0359-9119-402E-ABB5-F66A6A7303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nry Moore was born in July 1898 in Castleford, Yorksh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2AA5-DBB1-430B-82D1-13DDA0DC25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pful websites: www.henrymoore.com                    www.artchive.com/artchive/M/moor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henry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en-GB" sz="1200" spc="-1" strike="noStrike">
                <a:solidFill>
                  <a:srgbClr val="000000"/>
                </a:solidFill>
                <a:latin typeface="Calibri"/>
              </a:rPr>
              <a:t>moore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-fdn.co.uk/       www.henry-moore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BA49-4F5B-4EF6-913A-780EB61DF5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September 1919, after a brief return to elementary-school teaching, he went to Leeds School of Art on an ex-serviceman's grant. He was soon recognized as a star pupil, and in 1921 won a scholarship to the Royal College of Art in Lond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4087-9825-4B21-B3AD-76B5849D3C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4C7-1036-4097-8D81-9BE6E2E0A1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FC0-0305-45C9-9D0C-4B58B360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379-500D-44A9-B4FD-CA043241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828-4C36-460B-835A-ACBF3EB0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FDF-D8C6-4349-9FDF-594C2499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539-450E-4A11-A350-6B0311E1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773-9750-489B-A1BE-7597616D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B66-0597-411E-88C0-CE17D9A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654-8560-42E5-91DA-100D3A25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004-7A34-40CC-AD27-B8954073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704-18CD-49B1-84DC-EE3889A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322-3CD5-400D-894F-4C8269B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80F-B1D8-4F15-8263-CCA3E15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CD0C-FF4E-431D-B93D-5C34F2C3C9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henry-moore-fdn.co.uk/images/leeds_lh810_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ig Reed Black Italic"/>
              </a:rPr>
              <a:t>Henry Moo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86120" y="2071800"/>
            <a:ext cx="50436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bstract sculp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14200" y="1071720"/>
            <a:ext cx="242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orn:18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ed:19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351760" y="142920"/>
            <a:ext cx="34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orn in Yorksh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2.bp.blogspot.com/_aFUgHABZUG4/ShBylDT_hHI/AAAAAAAADac/FF-EI01nurw/s400/Henry+moore+reclining_figure_2_edit_0.jpg"/>
          <p:cNvPicPr/>
          <p:nvPr/>
        </p:nvPicPr>
        <p:blipFill>
          <a:blip r:embed="rId1"/>
          <a:stretch/>
        </p:blipFill>
        <p:spPr>
          <a:xfrm>
            <a:off x="857160" y="571680"/>
            <a:ext cx="742968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is sculptures are based on abstract figures and objects in na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upload.wikimedia.org/wikipedia/commons/e/e1/HenryMoore_RecliningFigure_1951.jpg"/>
          <p:cNvPicPr/>
          <p:nvPr/>
        </p:nvPicPr>
        <p:blipFill>
          <a:blip r:embed="rId1"/>
          <a:stretch/>
        </p:blipFill>
        <p:spPr>
          <a:xfrm>
            <a:off x="-7920" y="1428840"/>
            <a:ext cx="9151920" cy="497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www.bluffton.edu/~sullivanm/mooretoronto/twolarge.jpg"/>
          <p:cNvPicPr/>
          <p:nvPr/>
        </p:nvPicPr>
        <p:blipFill>
          <a:blip r:embed="rId2"/>
          <a:stretch/>
        </p:blipFill>
        <p:spPr>
          <a:xfrm>
            <a:off x="0" y="142884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n you see the shape of a bod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veranda.com/cm/veranda/images/OutdoorLiving-Sculpture-7-lg-69066100.jpg"/>
          <p:cNvPicPr/>
          <p:nvPr/>
        </p:nvPicPr>
        <p:blipFill>
          <a:blip r:embed="rId1"/>
          <a:stretch/>
        </p:blipFill>
        <p:spPr>
          <a:xfrm>
            <a:off x="714240" y="928800"/>
            <a:ext cx="7739280" cy="580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kahngallery.co.uk/d/25477-2/kew+58.jpg"/>
          <p:cNvPicPr/>
          <p:nvPr/>
        </p:nvPicPr>
        <p:blipFill>
          <a:blip r:embed="rId2"/>
          <a:stretch/>
        </p:blipFill>
        <p:spPr>
          <a:xfrm>
            <a:off x="206280" y="142920"/>
            <a:ext cx="8723520" cy="5807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371520" y="6000840"/>
            <a:ext cx="84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at makes this sculpture look like a figu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can you describe his sculptur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tate.org.uk/collection/N/N05/N05387_9.jpg"/>
          <p:cNvPicPr/>
          <p:nvPr/>
        </p:nvPicPr>
        <p:blipFill>
          <a:blip r:embed="rId1"/>
          <a:stretch/>
        </p:blipFill>
        <p:spPr>
          <a:xfrm>
            <a:off x="928800" y="857160"/>
            <a:ext cx="7562880" cy="5376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23560" y="200016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moo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577680" y="142884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unr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151040" y="2357280"/>
            <a:ext cx="17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87160" y="5857920"/>
            <a:ext cx="386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les through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569640" y="5929200"/>
            <a:ext cx="19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t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793480" y="100008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ound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-214560"/>
            <a:ext cx="86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me sculptures are made from bronz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arm4.static.flickr.com/3474/3400304586_9d1c6ce9bd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ore studied at Leeds College of 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28840" y="5748480"/>
            <a:ext cx="64008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nd later at the Royal College of Art in Lon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tepapa.govt.nz/Henry_web/images/Henry-Moore.jpg"/>
          <p:cNvPicPr/>
          <p:nvPr/>
        </p:nvPicPr>
        <p:blipFill>
          <a:blip r:embed="rId1"/>
          <a:stretch/>
        </p:blipFill>
        <p:spPr>
          <a:xfrm>
            <a:off x="214200" y="1357200"/>
            <a:ext cx="4429080" cy="437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oddcitrus.files.wordpress.com/2009/10/henry-moore-at-work3.jpg"/>
          <p:cNvPicPr/>
          <p:nvPr/>
        </p:nvPicPr>
        <p:blipFill>
          <a:blip r:embed="rId2"/>
          <a:stretch/>
        </p:blipFill>
        <p:spPr>
          <a:xfrm>
            <a:off x="4714920" y="1357200"/>
            <a:ext cx="4071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is experience as a soldier influenced his drawing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ww.original.rolandcollection.com/rolandcollection/images/stills/32-580.gif"/>
          <p:cNvPicPr/>
          <p:nvPr/>
        </p:nvPicPr>
        <p:blipFill>
          <a:blip r:embed="rId1"/>
          <a:stretch/>
        </p:blipFill>
        <p:spPr>
          <a:xfrm>
            <a:off x="214200" y="1571760"/>
            <a:ext cx="4429080" cy="465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bbc.co.uk/schools/gcsebitesize/art/images/a2_henrymoore_row_of_sleepers.jpg"/>
          <p:cNvPicPr/>
          <p:nvPr/>
        </p:nvPicPr>
        <p:blipFill>
          <a:blip r:embed="rId2"/>
          <a:stretch/>
        </p:blipFill>
        <p:spPr>
          <a:xfrm>
            <a:off x="4714920" y="1571760"/>
            <a:ext cx="4132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easypedia.gr/el/images/shared/2/25/Henry_Moore,_Family_Group_(1950).jpg"/>
          <p:cNvPicPr/>
          <p:nvPr/>
        </p:nvPicPr>
        <p:blipFill>
          <a:blip r:embed="rId1"/>
          <a:stretch/>
        </p:blipFill>
        <p:spPr>
          <a:xfrm>
            <a:off x="214200" y="500040"/>
            <a:ext cx="3857760" cy="582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burnaway.org/wp-content/myimages/2009/03/henry-moore221.jpg"/>
          <p:cNvPicPr/>
          <p:nvPr/>
        </p:nvPicPr>
        <p:blipFill>
          <a:blip r:embed="rId2"/>
          <a:stretch/>
        </p:blipFill>
        <p:spPr>
          <a:xfrm>
            <a:off x="4143240" y="2643120"/>
            <a:ext cx="4834080" cy="3625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42880" y="642600"/>
            <a:ext cx="454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he made his sculptures look so stran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enry Moore Instit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800" y="510552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people of Yorkshire are so proud of Henry Moore, they have a sculpture gallery named after him in L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leeds.diarystar.co.uk/images/henry-moore-institute1.jpg"/>
          <p:cNvPicPr/>
          <p:nvPr/>
        </p:nvPicPr>
        <p:blipFill>
          <a:blip r:embed="rId1"/>
          <a:stretch/>
        </p:blipFill>
        <p:spPr>
          <a:xfrm>
            <a:off x="0" y="963720"/>
            <a:ext cx="5572080" cy="417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katieshingles.files.wordpress.com/2009/01/fig_1i_hmi_exterior_01.jpg"/>
          <p:cNvPicPr/>
          <p:nvPr/>
        </p:nvPicPr>
        <p:blipFill>
          <a:blip r:embed="rId2"/>
          <a:stretch/>
        </p:blipFill>
        <p:spPr>
          <a:xfrm>
            <a:off x="5465880" y="960480"/>
            <a:ext cx="3678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31:30Z</dcterms:created>
  <dc:creator>srn</dc:creator>
  <dc:description/>
  <dc:language>en-US</dc:language>
  <cp:lastModifiedBy>Barbara</cp:lastModifiedBy>
  <dcterms:modified xsi:type="dcterms:W3CDTF">2010-02-16T17:43:47Z</dcterms:modified>
  <cp:revision>9</cp:revision>
  <dc:subject/>
  <dc:title>Henry Moore</dc:title>
</cp:coreProperties>
</file>